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jpeg" ContentType="image/jpeg"/>
  <Override PartName="/ppt/media/image5.wmf" ContentType="image/x-wmf"/>
  <Override PartName="/ppt/media/image11.png" ContentType="image/png"/>
  <Override PartName="/ppt/media/image12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7B97-30EC-456D-92E9-1787452970C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egnaposto numero diapositiva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584A-13E9-43EB-AE06-EBE4BA142CB6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egnaposto numero diapositiva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9A86-62F0-4C3C-94D4-6423CE50F9E6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DC8C-E3E9-4896-B8E0-F6EA82882200}" type="slidenum">
              <a:rPr b="0" lang="es-E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egnaposto numero diapositiva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7DA8-8E8E-420A-9322-8E08326F6716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B4B5-294E-43A5-9ECA-8C820BAD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7EC4-46A6-4ADA-8562-6BDFE60F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F8B2-39EA-4FAA-8E2C-E2BBA88A0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1C70-F25F-4742-80BA-E1CC2C4BD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003A-5081-4B1B-902E-13311C38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E45D-2D14-472B-966C-7532BD9C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C7D5-8456-4310-84CC-3C92D293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2452-7D42-4D72-AACB-CE613852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7DF1-5552-4C98-B8D6-57FDA13B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EC41-FA85-4C2E-AC70-8612AE41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CF6F-70BB-4888-886A-A7DCFC28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45EF-7855-4CF2-9968-2531D607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4399-DFF8-4A06-94B6-4785013A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4CFD-101E-4886-B63A-609E9F37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9F7E-D9F0-418A-A816-D6E3183C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3228-DEF6-4327-B9A9-5DAF5711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1082-BEAA-477C-8395-7BE5D50F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E5C0-8A89-4FDA-92C5-A880E10D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6B71-3F11-4862-B346-50BC59BD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A68A-8F32-4FFF-9239-AED49B51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0A31-D7C3-47E7-A8E7-16C1E8FF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E5EA-EB19-4039-82F8-94CFB8F7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11B2-C452-4F87-9CBB-DBFB9622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5486-E289-4715-BBE6-251F488D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5BC2-5F0F-4C10-A182-CAE6B30D6D1D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86D6-771E-4CC6-A0C7-8B3D425F86FC}" type="slidenum"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31640" y="1483920"/>
            <a:ext cx="712764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20000"/>
                </a:solidFill>
                <a:latin typeface="Trebuchet MS"/>
              </a:rPr>
              <a:t>Provincia Microempresas S.A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4 Marcador de número de diapositiva"/>
          <p:cNvSpPr/>
          <p:nvPr/>
        </p:nvSpPr>
        <p:spPr>
          <a:xfrm>
            <a:off x="9360" y="6358680"/>
            <a:ext cx="58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90DB-A9A7-4D1E-93C1-944773C3F1A8}" type="slidenum">
              <a:rPr b="1" lang="es-E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3492360" y="3860640"/>
            <a:ext cx="23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CPCECF, 9 Junio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792760" y="5164200"/>
            <a:ext cx="2739960" cy="857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00000" y="5229360"/>
            <a:ext cx="2808360" cy="774720"/>
          </a:xfrm>
          <a:prstGeom prst="rect">
            <a:avLst/>
          </a:prstGeom>
          <a:ln w="0">
            <a:noFill/>
          </a:ln>
        </p:spPr>
      </p:pic>
      <p:sp>
        <p:nvSpPr>
          <p:cNvPr id="108" name="1 Título"/>
          <p:cNvSpPr/>
          <p:nvPr/>
        </p:nvSpPr>
        <p:spPr>
          <a:xfrm>
            <a:off x="1042920" y="2247840"/>
            <a:ext cx="73454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AR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Trebuchet MS"/>
              </a:rPr>
              <a:t>Programa de Microfinanzas del</a:t>
            </a:r>
            <a:br>
              <a:rPr sz="2000"/>
            </a:br>
            <a:r>
              <a:rPr b="0" lang="es-AR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Trebuchet MS"/>
              </a:rPr>
              <a:t>          Banco Provincia de Buenos 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99000" y="1146240"/>
            <a:ext cx="4521240" cy="5425560"/>
            <a:chOff x="99000" y="1146240"/>
            <a:chExt cx="4521240" cy="542556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 rot="206400">
              <a:off x="250560" y="1267920"/>
              <a:ext cx="4217760" cy="518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625840" y="3787920"/>
              <a:ext cx="145800" cy="145800"/>
            </a:xfrm>
            <a:prstGeom prst="diamond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79640" y="3645000"/>
              <a:ext cx="144360" cy="144360"/>
            </a:xfrm>
            <a:prstGeom prst="diamond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63640" y="2708280"/>
              <a:ext cx="144360" cy="144360"/>
            </a:xfrm>
            <a:prstGeom prst="diamond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92360" y="1989000"/>
              <a:ext cx="144360" cy="144720"/>
            </a:xfrm>
            <a:prstGeom prst="diamond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40000" y="2205000"/>
              <a:ext cx="144360" cy="144360"/>
            </a:xfrm>
            <a:prstGeom prst="diamond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90920" y="2492280"/>
              <a:ext cx="144360" cy="144720"/>
            </a:xfrm>
            <a:prstGeom prst="diamond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19640" y="4508640"/>
              <a:ext cx="144360" cy="144360"/>
            </a:xfrm>
            <a:prstGeom prst="diamond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24000" y="1341360"/>
              <a:ext cx="144360" cy="144720"/>
            </a:xfrm>
            <a:prstGeom prst="diamond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43280" y="2060640"/>
              <a:ext cx="144360" cy="144360"/>
            </a:xfrm>
            <a:prstGeom prst="diamond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43280" y="1628640"/>
              <a:ext cx="144360" cy="144720"/>
            </a:xfrm>
            <a:prstGeom prst="diamond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08000" y="1484280"/>
              <a:ext cx="144720" cy="144360"/>
            </a:xfrm>
            <a:prstGeom prst="diamond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84360" y="3427560"/>
              <a:ext cx="146160" cy="145800"/>
            </a:xfrm>
            <a:prstGeom prst="diamond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698920" y="4653000"/>
            <a:ext cx="144360" cy="144360"/>
          </a:xfrm>
          <a:prstGeom prst="diamond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59280" y="2492280"/>
            <a:ext cx="144360" cy="144720"/>
          </a:xfrm>
          <a:prstGeom prst="diamond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51280" y="4005360"/>
            <a:ext cx="144360" cy="144360"/>
          </a:xfrm>
          <a:prstGeom prst="diamond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4653000"/>
            <a:ext cx="144720" cy="144360"/>
          </a:xfrm>
          <a:prstGeom prst="diamond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27280" y="1700280"/>
            <a:ext cx="144360" cy="144360"/>
          </a:xfrm>
          <a:prstGeom prst="diamond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4581360"/>
            <a:ext cx="144360" cy="14472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0920" y="4724280"/>
            <a:ext cx="144720" cy="14472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47640" y="3141720"/>
            <a:ext cx="144720" cy="14436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64000" y="2421000"/>
            <a:ext cx="144360" cy="14436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248000" y="2181240"/>
            <a:ext cx="4896000" cy="46767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732720" y="4221000"/>
            <a:ext cx="144360" cy="144720"/>
          </a:xfrm>
          <a:prstGeom prst="diamond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588000" y="4076640"/>
            <a:ext cx="144720" cy="144360"/>
          </a:xfrm>
          <a:prstGeom prst="diamond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56360" y="4292640"/>
            <a:ext cx="144360" cy="144360"/>
          </a:xfrm>
          <a:prstGeom prst="diamond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96000" y="4221000"/>
            <a:ext cx="144360" cy="144720"/>
          </a:xfrm>
          <a:prstGeom prst="diamond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16720" y="4437000"/>
            <a:ext cx="144360" cy="14436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72360" y="4292640"/>
            <a:ext cx="144360" cy="14436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72360" y="4005360"/>
            <a:ext cx="144360" cy="14436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5157720"/>
            <a:ext cx="187164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876"/>
              </a:spcBef>
              <a:buClr>
                <a:srgbClr val="00336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66"/>
                </a:solidFill>
                <a:latin typeface="Trebuchet MS"/>
                <a:ea typeface="ＭＳ Ｐゴシック"/>
              </a:rPr>
              <a:t>Barad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876"/>
              </a:spcBef>
              <a:buClr>
                <a:srgbClr val="00336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66"/>
                </a:solidFill>
                <a:latin typeface="Trebuchet MS"/>
                <a:ea typeface="ＭＳ Ｐゴシック"/>
              </a:rPr>
              <a:t>B. Blan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876"/>
              </a:spcBef>
              <a:buClr>
                <a:srgbClr val="00336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66"/>
                </a:solidFill>
                <a:latin typeface="Trebuchet MS"/>
                <a:ea typeface="ＭＳ Ｐゴシック"/>
              </a:rPr>
              <a:t>Villa Ge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876"/>
              </a:spcBef>
              <a:buClr>
                <a:srgbClr val="00336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66"/>
                </a:solidFill>
                <a:latin typeface="Trebuchet MS"/>
                <a:ea typeface="ＭＳ Ｐゴシック"/>
              </a:rPr>
              <a:t>Cañue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876"/>
              </a:spcBef>
              <a:buClr>
                <a:srgbClr val="00336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66"/>
                </a:solidFill>
                <a:latin typeface="Trebuchet MS"/>
                <a:ea typeface="ＭＳ Ｐゴシック"/>
              </a:rPr>
              <a:t>Hae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68360" y="4869000"/>
            <a:ext cx="1800360" cy="15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876"/>
              </a:spcBef>
              <a:buClr>
                <a:srgbClr val="003366"/>
              </a:buClr>
              <a:buFont typeface="Trebuchet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rebuchet MS"/>
                <a:ea typeface="ＭＳ Ｐゴシック"/>
              </a:rPr>
              <a:t>Necoch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876"/>
              </a:spcBef>
              <a:buClr>
                <a:srgbClr val="003366"/>
              </a:buClr>
              <a:buFont typeface="Trebuchet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rebuchet MS"/>
                <a:ea typeface="ＭＳ Ｐゴシック"/>
              </a:rPr>
              <a:t>Lin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876"/>
              </a:spcBef>
              <a:buClr>
                <a:srgbClr val="003366"/>
              </a:buClr>
              <a:buFont typeface="Trebuchet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rebuchet MS"/>
                <a:ea typeface="ＭＳ Ｐゴシック"/>
              </a:rPr>
              <a:t>Constitu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876"/>
              </a:spcBef>
              <a:buClr>
                <a:srgbClr val="003366"/>
              </a:buClr>
              <a:buFont typeface="Trebuchet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rebuchet MS"/>
                <a:ea typeface="ＭＳ Ｐゴシック"/>
              </a:rPr>
              <a:t>O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92360" y="4797360"/>
            <a:ext cx="187164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0" indent="-93600">
              <a:lnSpc>
                <a:spcPct val="70000"/>
              </a:lnSpc>
              <a:spcBef>
                <a:spcPts val="876"/>
              </a:spcBef>
              <a:buClr>
                <a:srgbClr val="996633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6633"/>
                </a:solidFill>
                <a:latin typeface="Trebuchet MS"/>
                <a:ea typeface="ＭＳ Ｐゴシック"/>
              </a:rPr>
              <a:t>M. del Pl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996633"/>
                </a:solidFill>
                <a:latin typeface="Trebuchet MS"/>
                <a:ea typeface="ＭＳ Ｐゴシック"/>
              </a:rPr>
              <a:t>	</a:t>
            </a:r>
            <a:r>
              <a:rPr b="1" lang="es-ES" sz="1000" spc="-1" strike="noStrike">
                <a:solidFill>
                  <a:srgbClr val="996633"/>
                </a:solidFill>
                <a:latin typeface="Trebuchet MS"/>
                <a:ea typeface="ＭＳ Ｐゴシック"/>
              </a:rPr>
              <a:t>(El Martill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70000"/>
              </a:lnSpc>
              <a:spcBef>
                <a:spcPts val="876"/>
              </a:spcBef>
              <a:buClr>
                <a:srgbClr val="996633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6633"/>
                </a:solidFill>
                <a:latin typeface="Trebuchet MS"/>
                <a:ea typeface="ＭＳ Ｐゴシック"/>
              </a:rPr>
              <a:t>Tres Arroy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70000"/>
              </a:lnSpc>
              <a:spcBef>
                <a:spcPts val="876"/>
              </a:spcBef>
              <a:buClr>
                <a:srgbClr val="996633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6633"/>
                </a:solidFill>
                <a:latin typeface="Trebuchet MS"/>
                <a:ea typeface="ＭＳ Ｐゴシック"/>
              </a:rPr>
              <a:t>Bolív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70000"/>
              </a:lnSpc>
              <a:spcBef>
                <a:spcPts val="876"/>
              </a:spcBef>
              <a:buClr>
                <a:srgbClr val="996633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6633"/>
                </a:solidFill>
                <a:latin typeface="Trebuchet MS"/>
                <a:ea typeface="ＭＳ Ｐゴシック"/>
              </a:rPr>
              <a:t>La Pl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70000"/>
              </a:lnSpc>
              <a:spcBef>
                <a:spcPts val="876"/>
              </a:spcBef>
              <a:buClr>
                <a:srgbClr val="996633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6633"/>
                </a:solidFill>
                <a:latin typeface="Trebuchet MS"/>
                <a:ea typeface="ＭＳ Ｐゴシック"/>
              </a:rPr>
              <a:t>P.Patri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70000"/>
              </a:lnSpc>
              <a:spcBef>
                <a:spcPts val="876"/>
              </a:spcBef>
              <a:buClr>
                <a:srgbClr val="996633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6633"/>
                </a:solidFill>
                <a:latin typeface="Trebuchet MS"/>
                <a:ea typeface="ＭＳ Ｐゴシック"/>
              </a:rPr>
              <a:t>Fl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70000"/>
              </a:lnSpc>
              <a:spcBef>
                <a:spcPts val="876"/>
              </a:spcBef>
              <a:buClr>
                <a:srgbClr val="996633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6633"/>
                </a:solidFill>
                <a:latin typeface="Trebuchet MS"/>
                <a:ea typeface="ＭＳ Ｐゴシック"/>
              </a:rPr>
              <a:t>Chacar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524720" y="3445200"/>
            <a:ext cx="1584360" cy="1153800"/>
            <a:chOff x="7524720" y="3445200"/>
            <a:chExt cx="1584360" cy="1153800"/>
          </a:xfrm>
        </p:grpSpPr>
        <p:sp>
          <p:nvSpPr>
            <p:cNvPr id="194" name=""/>
            <p:cNvSpPr/>
            <p:nvPr/>
          </p:nvSpPr>
          <p:spPr>
            <a:xfrm>
              <a:off x="7524720" y="3445200"/>
              <a:ext cx="1368360" cy="115380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lvl="1" marL="179280" indent="6480" algn="ctr">
                <a:lnSpc>
                  <a:spcPct val="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9280" indent="6480" algn="ctr">
                <a:lnSpc>
                  <a:spcPct val="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9280" indent="6480">
                <a:lnSpc>
                  <a:spcPct val="5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1c1c1c"/>
                  </a:solidFill>
                  <a:latin typeface="Trebuchet MS"/>
                  <a:ea typeface="ＭＳ Ｐゴシック"/>
                </a:rPr>
                <a:t>41 actual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9280" indent="6480">
                <a:lnSpc>
                  <a:spcPct val="5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1c1c1c"/>
                  </a:solidFill>
                  <a:latin typeface="Trebuchet MS"/>
                  <a:ea typeface="ＭＳ Ｐゴシック"/>
                </a:rPr>
                <a:t>9 G7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9280" indent="6480">
                <a:lnSpc>
                  <a:spcPct val="5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1c1c1c"/>
                  </a:solidFill>
                  <a:latin typeface="Trebuchet MS"/>
                  <a:ea typeface="ＭＳ Ｐゴシック"/>
                </a:rPr>
                <a:t>7 G8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96360" y="4302360"/>
              <a:ext cx="126720" cy="144360"/>
            </a:xfrm>
            <a:prstGeom prst="diamond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96360" y="4084920"/>
              <a:ext cx="126720" cy="144360"/>
            </a:xfrm>
            <a:prstGeom prst="diamond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96360" y="3868920"/>
              <a:ext cx="126720" cy="144360"/>
            </a:xfrm>
            <a:prstGeom prst="diamond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669440" y="3510000"/>
              <a:ext cx="1439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Trebuchet MS"/>
                  <a:ea typeface="ＭＳ Ｐゴシック"/>
                </a:rPr>
                <a:t>REFERENCIAS</a:t>
              </a:r>
              <a:r>
                <a:rPr b="0" lang="en-US" sz="1500" spc="-1" strike="noStrike">
                  <a:solidFill>
                    <a:srgbClr val="000000"/>
                  </a:solidFill>
                  <a:latin typeface="Trebuchet MS"/>
                  <a:ea typeface="ＭＳ Ｐゴシック"/>
                </a:rPr>
                <a:t>: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6012000" y="1217520"/>
            <a:ext cx="3206520" cy="16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</a:t>
            </a:r>
            <a:r>
              <a:rPr b="0" i="1" lang="es-AR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57 sucurs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</a:t>
            </a:r>
            <a:r>
              <a:rPr b="0" i="1" lang="es-AR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13 M hab. alcanz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</a:t>
            </a:r>
            <a:r>
              <a:rPr b="0" i="1" lang="es-AR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43 part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</a:t>
            </a:r>
            <a:r>
              <a:rPr b="0" i="1" lang="es-AR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134 ejecutivos comer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     </a:t>
            </a:r>
            <a:r>
              <a:rPr b="0" i="1" lang="es-AR" sz="1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</a:t>
            </a:r>
            <a:r>
              <a:rPr b="0" i="1" lang="es-AR" sz="1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(104 actuales + 30 en capacitació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119700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420000"/>
                </a:solidFill>
                <a:latin typeface="Trebuchet MS"/>
              </a:rPr>
              <a:t>Cobertura geográfica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420000"/>
                </a:solidFill>
                <a:latin typeface="Trebuchet MS"/>
              </a:rPr>
              <a:t>Contacto e Información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grpSp>
        <p:nvGrpSpPr>
          <p:cNvPr id="203" name="14 Grupo"/>
          <p:cNvGrpSpPr/>
          <p:nvPr/>
        </p:nvGrpSpPr>
        <p:grpSpPr>
          <a:xfrm>
            <a:off x="1907640" y="1916280"/>
            <a:ext cx="4969440" cy="4681440"/>
            <a:chOff x="1907640" y="1916280"/>
            <a:chExt cx="4969440" cy="4681440"/>
          </a:xfrm>
        </p:grpSpPr>
        <p:pic>
          <p:nvPicPr>
            <p:cNvPr id="204" name="Picture 2" descr="F:\mis documentos\CLIENTES\Bapro\Pres\diptico02-04.jpg"/>
            <p:cNvPicPr/>
            <p:nvPr/>
          </p:nvPicPr>
          <p:blipFill>
            <a:blip r:embed="rId1"/>
            <a:stretch/>
          </p:blipFill>
          <p:spPr>
            <a:xfrm>
              <a:off x="1908720" y="1916280"/>
              <a:ext cx="4943880" cy="454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11 Conector recto"/>
            <p:cNvSpPr/>
            <p:nvPr/>
          </p:nvSpPr>
          <p:spPr>
            <a:xfrm flipH="1">
              <a:off x="1907640" y="1916640"/>
              <a:ext cx="1800" cy="468036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12 Conector recto"/>
            <p:cNvSpPr/>
            <p:nvPr/>
          </p:nvSpPr>
          <p:spPr>
            <a:xfrm flipH="1">
              <a:off x="6874920" y="1916280"/>
              <a:ext cx="1800" cy="468036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13 Conector recto"/>
            <p:cNvSpPr/>
            <p:nvPr/>
          </p:nvSpPr>
          <p:spPr>
            <a:xfrm>
              <a:off x="1908720" y="6596640"/>
              <a:ext cx="4968360" cy="108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777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20000"/>
                </a:solidFill>
                <a:uFillTx/>
                <a:latin typeface="Trebuchet MS"/>
              </a:rPr>
              <a:t>MISION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42920" y="2276640"/>
            <a:ext cx="7201080" cy="3313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Arial"/>
              </a:rPr>
              <a:t>Aportar a la bancarización y acceso al financiamiento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Arial"/>
              </a:rPr>
              <a:t>condiciones de c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Arial"/>
              </a:rPr>
              <a:t>Promover la igualdad de oportuni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Arial"/>
              </a:rPr>
              <a:t>brindando soluciones financier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Arial"/>
              </a:rPr>
              <a:t>integrales a los Microempres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Arial"/>
              </a:rPr>
              <a:t>de la provincia de Buenos Ai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6240600"/>
            <a:ext cx="197964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8"/>
          <p:cNvSpPr/>
          <p:nvPr/>
        </p:nvSpPr>
        <p:spPr>
          <a:xfrm>
            <a:off x="896760" y="5451480"/>
            <a:ext cx="431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5960" y="1052640"/>
            <a:ext cx="538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RATEGIA COMER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2637000"/>
            <a:ext cx="7201080" cy="25192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Ser un Banco confiabl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entregando en terreno un servicio especializ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de excelencia, amigable y cál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420000"/>
                </a:solidFill>
                <a:latin typeface="Trebuchet MS"/>
              </a:rPr>
              <a:t>HITOS ALCANZADOS A LA FECHA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2264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r>
              <a:rPr b="0" lang="es-AR" sz="2100" spc="-1" strike="noStrike">
                <a:solidFill>
                  <a:srgbClr val="000000"/>
                </a:solidFill>
                <a:latin typeface="Trebuchet MS"/>
              </a:rPr>
              <a:t>16500 créditos (IMF N*1 en Arg.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Trebuchet MS"/>
              </a:rPr>
              <a:t>+$90 Millones otorgad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Trebuchet MS"/>
              </a:rPr>
              <a:t>-3% de irregular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Trebuchet MS"/>
              </a:rPr>
              <a:t>Crédito promedio : $6000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Trebuchet MS"/>
              </a:rPr>
              <a:t>49 Sucs. Operativas (Conurbano e Interior de Bs.As.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Trebuchet MS"/>
              </a:rPr>
              <a:t>252 colaboradores </a:t>
            </a:r>
            <a:r>
              <a:rPr b="0" lang="es-AR" sz="1600" spc="-1" strike="noStrike">
                <a:solidFill>
                  <a:srgbClr val="000000"/>
                </a:solidFill>
                <a:latin typeface="Trebuchet MS"/>
              </a:rPr>
              <a:t>(104 Ejecutivos Comerci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356000" y="2873520"/>
            <a:ext cx="863640" cy="7189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6040" y="344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20000"/>
                </a:solidFill>
                <a:latin typeface="Trebuchet MS"/>
              </a:rPr>
              <a:t>Evolución Colocaciones (créditos otorgados)</a:t>
            </a:r>
            <a:endParaRPr b="0" lang="en-US" sz="30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187280" y="2495520"/>
          <a:ext cx="7053480" cy="381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495520"/>
                    <a:ext cx="7053480" cy="38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 flipV="1">
            <a:off x="4067280" y="220464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659640" y="220464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71240" y="1844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03200" y="1844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7920" y="1844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7800" y="3645000"/>
            <a:ext cx="71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Cliente 5.000 5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51640" y="2637000"/>
            <a:ext cx="79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Cliente 10.000 11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0000" y="2565360"/>
            <a:ext cx="936720" cy="70020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84720" y="3592440"/>
            <a:ext cx="863640" cy="62856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60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20000"/>
                </a:solidFill>
                <a:latin typeface="Trebuchet MS"/>
              </a:rPr>
              <a:t>Montos colocados y saldos de deuda</a:t>
            </a:r>
            <a:endParaRPr b="0" lang="en-US" sz="30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66720" y="1700280"/>
          <a:ext cx="6294600" cy="468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6720" y="1700280"/>
                    <a:ext cx="6294600" cy="46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 flipV="1">
            <a:off x="4067280" y="2204640"/>
            <a:ext cx="0" cy="374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443640" y="2204640"/>
            <a:ext cx="0" cy="374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58520" y="1838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9240" y="1844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90880" y="1844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56000" y="630864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Mill $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628640" y="2139840"/>
          <a:ext cx="6328080" cy="395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8640" y="2139840"/>
                    <a:ext cx="632808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20000"/>
                </a:solidFill>
                <a:latin typeface="Trebuchet MS"/>
              </a:rPr>
              <a:t>Perfil de la cartera…</a:t>
            </a:r>
            <a:endParaRPr b="0" lang="en-US" sz="3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87640" y="21985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Distribución por Seg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20000"/>
                </a:solidFill>
                <a:latin typeface="Trebuchet MS"/>
              </a:rPr>
              <a:t>…</a:t>
            </a:r>
            <a:r>
              <a:rPr b="1" lang="en-US" sz="3000" spc="-1" strike="noStrike">
                <a:solidFill>
                  <a:srgbClr val="420000"/>
                </a:solidFill>
                <a:latin typeface="Trebuchet MS"/>
              </a:rPr>
              <a:t>Perfil de la cartera</a:t>
            </a:r>
            <a:endParaRPr b="0" lang="en-US" sz="30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79280" y="2308320"/>
          <a:ext cx="4608720" cy="230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308320"/>
                    <a:ext cx="4608720" cy="23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4859280" y="381312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Distribución por Montos Otorg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849920" y="4253040"/>
          <a:ext cx="3944880" cy="2016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49920" y="4253040"/>
                    <a:ext cx="394488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755640" y="198900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Distribución por plazos de créd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20000"/>
                </a:solidFill>
                <a:latin typeface="Trebuchet MS"/>
              </a:rPr>
              <a:t>Ejecutivos Comerciales</a:t>
            </a:r>
            <a:endParaRPr b="0" lang="en-US" sz="3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98160" y="19098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62160" y="1916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06880" y="1916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5f5f5f"/>
                </a:solidFill>
                <a:latin typeface="Arial"/>
                <a:ea typeface="ＭＳ Ｐゴシック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66920" y="2351160"/>
          <a:ext cx="6622920" cy="428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6920" y="2351160"/>
                    <a:ext cx="6622920" cy="42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 flipV="1">
            <a:off x="4067280" y="220500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516720" y="220500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20:05:15Z</dcterms:created>
  <dc:creator>Banco de la Provincia de Buenos Aires</dc:creator>
  <dc:description/>
  <dc:language>en-US</dc:language>
  <cp:lastModifiedBy>olopez</cp:lastModifiedBy>
  <dcterms:modified xsi:type="dcterms:W3CDTF">2011-07-27T22:59:41Z</dcterms:modified>
  <cp:revision>50</cp:revision>
  <dc:subject/>
  <dc:title>Diapositiva 1</dc:title>
</cp:coreProperties>
</file>